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23C-A2A5-4F84-AE34-0DCAB529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E9F-7D14-44CF-BDD8-4EA139A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3AD-F77A-4C0B-B83B-A079B640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B0C-B350-4ECF-AB9F-2BCA9089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DB71-0B75-4992-88B3-B758EAC5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EF74-F3DB-4F9B-8A8D-B16D6B6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D848-6CB2-40FB-9FB6-91F7C649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9E9E-AC72-4A66-8608-A2B25CFA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6A3E-DA0B-4645-86BA-42DF065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0FB6-D98E-4AF1-8305-032CECE0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D105-AB1C-490F-9F4D-155B21B3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9B8-88A0-4B47-B4D2-257FC156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E3FA-14D0-460C-95FC-C96A325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9513-8888-49F2-832F-98042D9B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2288-EFFA-41C4-A2F8-589EB2D6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ED39-A748-4429-BAB6-B40ECD30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3533-AFA0-473C-9E12-A3E89482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F15-75BE-4134-9920-DA77536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00E-9F1B-4377-A54E-CFA0A70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794-C04B-4EE1-8096-CD0D6D44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583-C46D-457B-A775-ECC3A58F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638-5F28-4974-BCF1-935AD32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658-3241-4358-BE15-A30133E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A20-E191-4C74-BCBE-293C6C6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ffff00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91DE-DAF6-4033-A71C-63B329C17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ffff00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EC03-0C75-4BC3-8DF7-596CA8F5C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-trader.net/" TargetMode="External"/><Relationship Id="rId2" Type="http://schemas.openxmlformats.org/officeDocument/2006/relationships/hyperlink" Target="http://www.x-trader.net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rackrecord.es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patrading.com/" TargetMode="External"/><Relationship Id="rId2" Type="http://schemas.openxmlformats.org/officeDocument/2006/relationships/hyperlink" Target="http://www.hispafinanzas.com/" TargetMode="External"/><Relationship Id="rId3" Type="http://schemas.openxmlformats.org/officeDocument/2006/relationships/hyperlink" Target="http://www.tsanalytics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66"/>
                </a:solidFill>
                <a:latin typeface="Hemi Head 426"/>
              </a:rPr>
              <a:t>SISTEMAS DE TRADING</a:t>
            </a:r>
            <a:br>
              <a:rPr sz="4800"/>
            </a:br>
            <a:r>
              <a:rPr b="0" lang="es-ES_tradnl" sz="2000" spc="-1" strike="noStrike">
                <a:solidFill>
                  <a:srgbClr val="ffcc66"/>
                </a:solidFill>
                <a:latin typeface="Hemi Head 426"/>
              </a:rPr>
              <a:t>Riesgos, expectativas reales y gestión alternativa.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1640" y="2781000"/>
            <a:ext cx="666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berto Muñoz. ( www.x-trader.net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avier Sierra. ( www.trackrecord.e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exey De La Loma. ( www.hispatrading.com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Arial"/>
              </a:rPr>
              <a:t>NO TODO SON VENTAJAS…</a:t>
            </a: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reglas generalmente no recogen muchos aspectos que un trader puede apreciar cuando opera discreciona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n disciplina ningún sistema funciona, lo que implica la necesidad de automatiz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simulaciones y optimizaciones no sirven de nada si el sistema no se adapta a las condiciones de merc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992DBB25-DDBA-422C-AA94-DC58069CE139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DISEÑANDO UN SISTEM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9214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Aspectos que debemos cubrir con el pla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Reglas de entra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¿Qué hago si la posición va mal? El Stop Los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¿Qué hago si la posición va bien? ¿Objetivos o Trailing Stop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¿Qué hago si se presenta una situación inesperad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Un paso adelante: la gestión de las posiciones, ¿Con qué volumen debo opera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955B28AB-667E-4BFC-A480-76A6CDEC8942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BUSCANDO PATRON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omos capaces de determinar un patrón que se da un elevado porcentaje (&gt;75%) de veces, podemos diseñar un sistema gana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stimación de probabilidades permite ajustar stop loss y objetivo de benefi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búsqueda de patrones será sin duda el futuro de los sistemas de tra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F8576896-1FFF-4BD3-BE2B-21D46802B6A4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BUSCANDO PATRONES</a:t>
            </a:r>
            <a:br>
              <a:rPr sz="4000"/>
            </a:b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-Ejemplo-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2168640"/>
            <a:ext cx="79214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maginemos que la Compra si el Cierre es mayor que el Máximo anterior tiene un 75% de éxito si cerramos en la siguiente vel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Asimismo, podemos ver cuál es la ganancia mínima en caso de éxito y la pérdida máxima en el 25% restante de oper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EC9BB7D0-579B-4978-96D2-5909954AC6D9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BUSCANDO PATRONES</a:t>
            </a:r>
            <a:br>
              <a:rPr sz="4000"/>
            </a:b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-Ejemplo-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2168640"/>
            <a:ext cx="79214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la ganancia mínima es mayor que un tercio de la pérdida máxima tenemos un sistema ganador (Esperanza&gt;0). No obstante, esto deberá confirmarse mediante </a:t>
            </a:r>
            <a:r>
              <a:rPr b="0" i="1" lang="es-ES_tradnl" sz="2600" spc="-1" strike="noStrike">
                <a:solidFill>
                  <a:srgbClr val="ffffff"/>
                </a:solidFill>
                <a:latin typeface="Times New Roman"/>
              </a:rPr>
              <a:t>walkforward testing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odemos complicarlo analizando el patrón por horas, días, semanas, filtrando con medias móvile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730C6BF5-FD6C-4364-8F6F-11AAAD2CF466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Arial Black"/>
              </a:rPr>
              <a:t>trackrecord.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4BC69DEA-6ED7-4CE9-9F8E-09ECEBAAB99C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92000" y="189000"/>
            <a:ext cx="7560000" cy="6200640"/>
          </a:xfrm>
          <a:prstGeom prst="rect">
            <a:avLst/>
          </a:prstGeom>
          <a:ln w="22320">
            <a:solidFill>
              <a:srgbClr val="ffcc66"/>
            </a:solidFill>
            <a:miter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cc66"/>
                </a:solidFill>
                <a:latin typeface="Arial"/>
              </a:rPr>
              <a:t>OPERATIVA DISCRECIONAL</a:t>
            </a:r>
            <a:br>
              <a:rPr sz="3800"/>
            </a:br>
            <a:r>
              <a:rPr b="0" lang="es-ES" sz="3800" spc="-1" strike="noStrike">
                <a:solidFill>
                  <a:srgbClr val="ffcc66"/>
                </a:solidFill>
                <a:latin typeface="Arial"/>
              </a:rPr>
              <a:t>FRENTE A SISTEMATIZAD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449360"/>
            <a:ext cx="79214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imes New Roman"/>
              </a:rPr>
              <a:t>Discrecion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e opera sin regl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specíficas prefij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buen trader obtiene mayor rend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medio/largo plazo es duro psicológic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imes New Roman"/>
              </a:rPr>
              <a:t>Sistematiz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siguen unas reglas, un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lan de trading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decidimos,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ólo ejecutam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s respalda la estadís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nemos un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cuán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y un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or qué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bien defin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quieren disciplin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BEEB4B6E-6C8B-4C66-B527-8CEBB2E26CFA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B589FD95-6607-47EA-9783-882DD5794304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UN SISTEMA AYUDA A BATIR A NUESTRO PEOR ENEMIG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771640" y="2529000"/>
            <a:ext cx="36007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0256878F-735D-4D04-8EE3-5BC1AD769316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1640" y="609480"/>
            <a:ext cx="82807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cc66"/>
                </a:solidFill>
                <a:latin typeface="Arial"/>
              </a:rPr>
              <a:t>TU MISMO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662200" y="1978200"/>
            <a:ext cx="39592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31640" y="260280"/>
          <a:ext cx="8280720" cy="6122880"/>
        </p:xfrm>
        <a:graphic>
          <a:graphicData uri="http://schemas.openxmlformats.org/drawingml/2006/table">
            <a:tbl>
              <a:tblPr/>
              <a:tblGrid>
                <a:gridCol w="8280720"/>
              </a:tblGrid>
              <a:tr h="337320">
                <a:tc>
                  <a:txBody>
                    <a:bodyPr lIns="90000" rIns="18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Hemi Head 426"/>
                        </a:rPr>
                        <a:t>NOTA SOBRE LOS PONENTES: ALBERTO MUÑOZ CABAN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560">
                <a:tc>
                  <a:txBody>
                    <a:bodyPr lIns="90000" rIns="216000" tIns="46800" bIns="46800" anchor="t">
                      <a:noAutofit/>
                    </a:bodyPr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trás de </a:t>
                      </a:r>
                      <a:r>
                        <a:rPr b="0" lang="es-ES" sz="15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hlinkClick r:id="rId1"/>
                        </a:rPr>
                        <a:t>X-Trader.net</a:t>
                      </a: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stá Alberto Muñoz, profesor de la Facultad de CC. Económicas de la UNED. En palabras de su creador, "esta web nació con el objetivo de enseñar y compartir conocimientos entre todos los traders anónimos que operan de forma particular, creando un lugar de encuentro y debate"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ualmente </a:t>
                      </a:r>
                      <a:r>
                        <a:rPr b="0" lang="es-ES" sz="15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hlinkClick r:id="rId2"/>
                        </a:rPr>
                        <a:t>X-Trader.net</a:t>
                      </a: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cuenta con una de las comunidades más activas sobre Derivados y Sistemas de Trading, así como con una extensa base de artículos que cubren diversos aspectos del trading, tales como la programación de sistemas, la psicología del trader o la creación de nuevos mercados y productos financiero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21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F02554DA-DDEB-4497-B2D9-223F60F1F4C8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VENTAJAS DE LA OPERATIVA AUTOMATIZADA</a:t>
            </a:r>
            <a:r>
              <a:rPr b="0" lang="es-ES" sz="3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162864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O operamos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ólo supervisam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pidez de evaluación y ejec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os permite operar simultáneamente en varios merc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os dan libert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labón más débi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y su posible indisciplina, duda, miedo, avaricia, indisposición al ingresar las órdenes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saparec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D3484B9F-1742-4341-82B8-B8B3745D046B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827465E4-79C9-4F03-B5B6-77D591038C0D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640" y="609480"/>
            <a:ext cx="82807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DE NUEVO…</a:t>
            </a:r>
            <a:br>
              <a:rPr sz="1800"/>
            </a:br>
            <a:r>
              <a:rPr b="1" lang="es-ES" sz="6600" spc="-1" strike="noStrike">
                <a:solidFill>
                  <a:srgbClr val="ffcc66"/>
                </a:solidFill>
                <a:latin typeface="Arial"/>
              </a:rPr>
              <a:t>TU MISMO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62200" y="1978200"/>
            <a:ext cx="39592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</a:rPr>
              <a:t>MONEY MANAGEMENT,</a:t>
            </a:r>
            <a:br>
              <a:rPr sz="4400"/>
            </a:b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GESTIÓN DEL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628640"/>
            <a:ext cx="792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largo plazo marca el éxito o el fraca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uestro capital es nuestra herramienta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palanca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perdemos un 50% necesitamos ganar un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regla del 4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3BEA4CFF-6068-4361-B23F-79A1DD30992C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DRAWDOWN,</a:t>
            </a:r>
            <a:br>
              <a:rPr sz="4400"/>
            </a:b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RACHA </a:t>
            </a: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DE PÉRDIDAS</a:t>
            </a: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1628640"/>
            <a:ext cx="7921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iesgo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rawdow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larg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vs.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ntabilidad net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rawdown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áxim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sumible, para no descapitalizar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ándo desconectar un sist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3C68CDFB-7779-436D-AD66-D635E74B48A9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¿ES BUENO OPTIMIZAR</a:t>
            </a:r>
            <a:br>
              <a:rPr sz="3800"/>
            </a:b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UN SISTEMA?</a:t>
            </a:r>
            <a:r>
              <a:rPr b="0" lang="es-ES" sz="3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628640"/>
            <a:ext cx="7921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o hay respuesta clar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Hay traders que están en contra porque siempre se hace en base a datos del pas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mercados son cambian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uidado con sobreoptimiza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A699F009-E7BC-425C-A47E-7BCF1D1BB521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¿CÓMO OPTIMIZAR</a:t>
            </a:r>
            <a:br>
              <a:rPr sz="3800"/>
            </a:b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UN SISTEMA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2864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Times New Roman"/>
              </a:rPr>
              <a:t>Sobre el histórico de da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odificando rangos de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giendo el máximo de datos dispon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timizando por tramos ampl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Times New Roman"/>
              </a:rPr>
              <a:t>Sobre el uptime del siste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dundancia de P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ínea ADSL y conexión vía móvil por 3G, GPRS o wif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entas en diferentes ent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empo real redund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na SAI por si se va la lu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63F4B623-3C24-4A58-9002-00C311E28F8C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¿CÓMO AFECTAN LOS SISTEMAS</a:t>
            </a:r>
            <a:br>
              <a:rPr sz="3800"/>
            </a:b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A LOS MERCADOS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1628640"/>
            <a:ext cx="792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penderá de la liquide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COMMODITIES y FOREX lo mejor es comprar alto y vender más alto y vender bajo y comprar más bajo todavía (buy strength, sell weaknes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las ACCIONES justo lo contrario. No son mercados tan tendenciales funcionando mejor los sistemas de contratendencia y de reconocimiento de patrones de precios (buy weakness, sell strengh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FUTUROS SOBRE ÍNDICES algo interme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DDA99E70-7857-451B-A3F8-AD76FCA692BD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89000"/>
            <a:ext cx="9144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COMENTARIO FINAL</a:t>
            </a:r>
            <a:r>
              <a:rPr b="0" lang="es-ES" sz="3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628640"/>
            <a:ext cx="792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Desde la óptica diaria hay 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menos ruido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Evitar huecos/gap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depende de nosotr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Estar siempre en mercado en principio 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reduce tus posibilidade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Lo sencillo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es lo que mejor suele funciona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Actitud positiva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Olvídate del saldo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de tu cuen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F4087402-9D16-47F7-99AC-4C01EC1415DE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Arial Black"/>
              </a:rPr>
              <a:t>Hispatrading.com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92000" y="189000"/>
            <a:ext cx="7539120" cy="6168960"/>
          </a:xfrm>
          <a:prstGeom prst="rect">
            <a:avLst/>
          </a:prstGeom>
          <a:ln w="22320">
            <a:solidFill>
              <a:srgbClr val="ffcc66"/>
            </a:solidFill>
            <a:miter/>
          </a:ln>
        </p:spPr>
      </p:pic>
      <p:graphicFrame>
        <p:nvGraphicFramePr>
          <p:cNvPr id="22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6424D8F8-09E7-41E5-8EA3-38AD07307400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31640" y="260280"/>
          <a:ext cx="8280720" cy="6122880"/>
        </p:xfrm>
        <a:graphic>
          <a:graphicData uri="http://schemas.openxmlformats.org/drawingml/2006/table">
            <a:tbl>
              <a:tblPr/>
              <a:tblGrid>
                <a:gridCol w="8280720"/>
              </a:tblGrid>
              <a:tr h="337320">
                <a:tc>
                  <a:txBody>
                    <a:bodyPr lIns="90000" rIns="21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Hemi Head 426"/>
                        </a:rPr>
                        <a:t>NOTA SOBRE LOS PONENTES: JAVIER SIERRA MANSILL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21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560">
                <a:tc>
                  <a:txBody>
                    <a:bodyPr lIns="90000" rIns="216000" tIns="46800" bIns="46800" anchor="t">
                      <a:noAutofit/>
                    </a:bodyPr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vier Sierra es un inversor particular con once años de experiencia en los mercados bursátile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 la gran mayoría, sus inicios en el mercado se hicieron de forma discrecional, sin un plan a seguir y sin aplicar ni análisis técnico ni análisis fundamental. Luego, en constante evolución ha ido quemando etapas: primero sólo acciones, luego contado con apalancamiento, después ventas en corto, luego derivados sobre acciones, y finalmente futuros sobre índices con operativa sistemática y automatizada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, en la actualidad sólo opera en mercados de derivados en zona Eurex (EuroStoxx50, Dax Xetra y Bund) y en su blog </a:t>
                      </a:r>
                      <a:r>
                        <a:rPr b="0" lang="es-ES" sz="15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hlinkClick r:id="rId1"/>
                        </a:rPr>
                        <a:t>trackrecord.es</a:t>
                      </a: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scribe por adelantado su filosofía de trading y sus estrategias operativas para dichos futuros, </a:t>
                      </a:r>
                      <a:r>
                        <a:rPr b="1" i="1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se trata de decir hoy lo que se hará mañana y no al revés”</a:t>
                      </a: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21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9E9C1F37-DF4F-4CB4-8FB3-EA81C29C6A2D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Arial"/>
              </a:rPr>
              <a:t>¿FUNCIONAN LOS SISTEMAS EN TIEMPO REAL?</a:t>
            </a:r>
            <a:r>
              <a:rPr b="0" lang="es-ES" sz="3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198900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ckTesting versus Real. Cuidado con el curve-fitting. El backtesting es un ejercicio teórico que después debe plasmarse en tiempo real y hacer un estudio de desvi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S Systematic Strategies SICAV, es la primera SICAV gestionada de forma exclusiva con sistemas de trading. En mercado desde Junio de 2007, TS Analytics decide las estrategias de inversión y Nordkapp ejecuta dichas estrateg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,5 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5F151613-3BF0-4A48-AD89-A7F2C524AC5A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Arial"/>
              </a:rPr>
              <a:t>CONSTRUCCIÓN DE UN PORTFOLIO BASADO EN SISTEM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41300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E2C071E9-710F-4C09-B7CE-0CB37A582D6B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1808280"/>
            <a:ext cx="792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versificación entre Siste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versificación entre Merc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versificación por direcciona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MONEY MANAGEMENT O DIVERSIF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41300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6F9CA204-F095-4A67-A3FE-CF1186484BC5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180828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gestión monetaria crece aumentando la posición a medida que mejora nuestra Equity y vicever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versificación nos hace crecer mediante la introdución de nuevos sistemas a medida que crece nuestra Equity y vicever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Money Management o Diversificación? ¿Por qué no las dos a la vez? TS SYTEMATIC STRATEGIES SIC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69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Arial"/>
              </a:rPr>
              <a:t>¿ES POSIBLE GANAR CON UN MERCADO BAJISTA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98900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Qué es la gestión alternativa?. ¿Alternativa a qué? ¿Qué son los retornos absolut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largo plazo la bolsa siempre sube. La estrategia “Buy and Hold” desde principios del siglo pasado en bolsa americana ha dado retornos cercanos al 10% pero con volatilidades cercanas al 20%. ¿Estaría satisfecho con esta volatilida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esastre punto.com llevó al Indice EuroStoxx50 a un 60% aproximadamente de DrawDown ¿lo podría aguant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389FD066-D0C2-41C6-9813-2C70B2AE9672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cc66"/>
                </a:solidFill>
                <a:latin typeface="Arial"/>
              </a:rPr>
              <a:t>Indice EuroStoxx50 (15-03-2007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BA1DB033-6699-4D6E-B4E6-31CDB2064AB2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1280" y="1808280"/>
            <a:ext cx="774540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EuroStoxx50 vs. TS Systematic Strategies SICA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4E356788-9E00-44C1-BB42-3A667EA7777A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150920" y="1628640"/>
          <a:ext cx="6469200" cy="4063680"/>
        </p:xfrm>
        <a:graphic>
          <a:graphicData uri="http://schemas.openxmlformats.org/drawingml/2006/table">
            <a:tbl>
              <a:tblPr/>
              <a:tblGrid>
                <a:gridCol w="2165400"/>
                <a:gridCol w="2151000"/>
                <a:gridCol w="21528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uroStox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CAV con Sistem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-01-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4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-02-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.19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8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-03-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.48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EuroStoxx50 vs. TS Systematic Strategies SICA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7AFC0A5A-7D61-4861-B8F8-0EB957B26C62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792000" y="1198440"/>
          <a:ext cx="7740720" cy="45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198440"/>
                    <a:ext cx="774072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31640" y="260280"/>
          <a:ext cx="8280720" cy="5883480"/>
        </p:xfrm>
        <a:graphic>
          <a:graphicData uri="http://schemas.openxmlformats.org/drawingml/2006/table">
            <a:tbl>
              <a:tblPr/>
              <a:tblGrid>
                <a:gridCol w="8280720"/>
              </a:tblGrid>
              <a:tr h="337320">
                <a:tc>
                  <a:txBody>
                    <a:bodyPr lIns="90000" rIns="21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Hemi Head 426"/>
                        </a:rPr>
                        <a:t>NOTA SOBRE LOS PONENTES: ALEXEY DE LA LOMA JIMENEZ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21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6160">
                <a:tc>
                  <a:txBody>
                    <a:bodyPr lIns="90000" rIns="216000" tIns="46800" bIns="46800" anchor="t">
                      <a:noAutofit/>
                    </a:bodyPr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exey De La Loma Jiménez es Licenciado en Economía y Diplomado en Ciencias Empresariales por la Universidad Carlos III de Madrid. Socio fundador de TradeSolver, empresa que gestiona el portal de trading </a:t>
                      </a:r>
                      <a:r>
                        <a:rPr b="0" lang="es-ES_tradnl" sz="15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hlinkClick r:id="rId1"/>
                        </a:rPr>
                        <a:t>www.hispatrading.com</a:t>
                      </a:r>
                      <a:r>
                        <a:rPr b="0" lang="es-ES_tradnl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y la librería financiera </a:t>
                      </a:r>
                      <a:r>
                        <a:rPr b="0" lang="es-ES_tradnl" sz="15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hlinkClick r:id="rId2"/>
                        </a:rPr>
                        <a:t>www.hispafinanzas.co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de el año 2001 se dedica, exclusivamente, a los mercados financieros, como Trader por cuenta propia y especialista en Money Management, sistemas automáticos de inversión a corto plazo y Técnicas Cuantitativas aplicadas a los mercados financieros. Colabora todos los lunes en el programa Cierre de Mercados de Radio Intereconomía e Imparte formación sobre sistemas de trading y más de 250 alumnos han pasado ya por sus curso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onsable de desarrollo de estrategias y portfolios en TS Analytics (</a:t>
                      </a:r>
                      <a:r>
                        <a:rPr b="0" lang="es-ES" sz="15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hlinkClick r:id="rId3"/>
                        </a:rPr>
                        <a:t>www.tsanalytics.com</a:t>
                      </a: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 , compañía encargada de diseñar la estrategia de inversión de la SICAV TS SYSTEMATIC STRATEGIES, vehículo de inversión gestionado por Nordkapp y que cotiza en el Mercado Alternativo Bursátil. Es la primera SICAV del mercado español gestionada mediante sistemas de trading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 voces de los maestros de los mercados financieros”. Millenium Capital, 2006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21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812000" y="645336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87678656-D683-4B34-A513-FF7B0463E221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31640" y="645336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645336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Arial Black"/>
              </a:rPr>
              <a:t>x-trader.ne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1640" y="189000"/>
            <a:ext cx="8280720" cy="6119640"/>
          </a:xfrm>
          <a:prstGeom prst="rect">
            <a:avLst/>
          </a:prstGeom>
          <a:ln w="22320">
            <a:solidFill>
              <a:srgbClr val="ffcc66"/>
            </a:solidFill>
            <a:miter/>
          </a:ln>
        </p:spPr>
      </p:pic>
      <p:graphicFrame>
        <p:nvGraphicFramePr>
          <p:cNvPr id="12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6B147518-8340-483B-99C0-560718B3F296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NUESTRA MIS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11280" y="1988640"/>
            <a:ext cx="7921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Times New Roman"/>
              </a:rPr>
              <a:t>Enseñar y compartir conocimientos entre todos los traders anónimos que operan de forma particular, creando un lugar de encuentro y debate sobre trading, tratando aspectos tales como la creación y programación de sistemas, la psicología del trader o la creación de nuevos productos financieros.</a:t>
            </a: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9B0825DD-E7AF-4A32-A9DE-D2EBB4D942DA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Arial"/>
              </a:rPr>
              <a:t>LAS VENTAJAS DE UN SISTEMA DE TRADING</a:t>
            </a: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glas objetivas y gestión moneta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ipl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ite simular y optimizar antes de oper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D1DAEC04-5C90-4762-9403-E074F7061160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Arial"/>
              </a:rPr>
              <a:t>LAS VENTAJAS DE UN SISTEMA DE TRADING</a:t>
            </a: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n definitiva, nos permite establece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UN PLAN DE TRABAJ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12000" y="6489720"/>
          <a:ext cx="900000" cy="28872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. </a:t>
                      </a:r>
                      <a:fld id="{80CAD08A-6AD1-4C2B-979D-B5BFEBF202BD}" type="slidenum">
                        <a:rPr b="1" lang="es-MX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number&gt;</a:t>
                      </a:fld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31640" y="6489720"/>
            <a:ext cx="3600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Bolsalia (22 de marzo de 2007 a las 18: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6489720"/>
            <a:ext cx="3421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istemas de Tra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5:24:03Z</dcterms:created>
  <dc:creator>Alberto, Javier y Alexey</dc:creator>
  <dc:description>Alberto Muñoz. ( www.x-trader.net )
Javier Sierra. ( www.trackrecord.es )
Alexey De La Loma. ( www.hispatrading.com )
</dc:description>
  <dc:language>en-US</dc:language>
  <cp:lastModifiedBy>Javier</cp:lastModifiedBy>
  <dcterms:modified xsi:type="dcterms:W3CDTF">2007-03-21T22:12:10Z</dcterms:modified>
  <cp:revision>215</cp:revision>
  <dc:subject>Bolsalia 2007 (mesa sistemas)</dc:subject>
  <dc:title>SISTEMAS DE TRADING: Riesgos, expectativas reales y gestión alterna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723082</vt:lpwstr>
  </property>
</Properties>
</file>